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ll Communic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discovered some universal mechanisms of cellular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257800" cy="3927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2280" y="62193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nding between signal molecule (liga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ceptor is highl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formational change in a recep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the initial transduction of the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tracellular Recep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acellular recep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ytoplasmic or nuclea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438280"/>
            <a:ext cx="62481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molecules that are small or hydrophobic can readily cross the plasma membrane use these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ceptors in the Plasma Membran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hree main types of membrane recep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-protein-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osine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-protein-linked recep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0000" y="1219320"/>
            <a:ext cx="8326800" cy="5334480"/>
            <a:chOff x="360000" y="1219320"/>
            <a:chExt cx="8326800" cy="53344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1333440" y="1246320"/>
              <a:ext cx="735336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977080" y="15937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07320" y="3166920"/>
              <a:ext cx="1271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-protein-link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4160" y="3251160"/>
              <a:ext cx="1466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a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65840" y="4268880"/>
              <a:ext cx="73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1800" y="413856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-protei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nacti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33600" y="426384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7280" y="6194520"/>
              <a:ext cx="1168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ular respo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94920" y="484344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1200" y="314964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56440" y="3214800"/>
              <a:ext cx="126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 molec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4720" y="3130560"/>
              <a:ext cx="754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t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9120" y="2410200"/>
              <a:ext cx="8679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gment th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acts wi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 protei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05280" y="4184640"/>
              <a:ext cx="45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9360" y="5680080"/>
              <a:ext cx="45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94040" y="418140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4680" y="561024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54360" y="3581280"/>
              <a:ext cx="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78120" y="3465360"/>
              <a:ext cx="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8000" y="4108320"/>
              <a:ext cx="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8680" y="3605040"/>
              <a:ext cx="22860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095880" y="3462480"/>
              <a:ext cx="38124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5176800"/>
              <a:ext cx="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6400" y="5857560"/>
              <a:ext cx="2977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67680" y="35244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1460520"/>
              <a:ext cx="1522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000" y="25448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90160" y="1219320"/>
              <a:ext cx="1213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-binding s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0000" y="62481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7880" y="3994200"/>
              <a:ext cx="45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or tyrosine kin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3320" y="1371600"/>
            <a:ext cx="8645760" cy="5029920"/>
            <a:chOff x="193320" y="1371600"/>
            <a:chExt cx="8645760" cy="50299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370160" y="1373400"/>
              <a:ext cx="7468920" cy="49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51440" y="1386000"/>
              <a:ext cx="796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07920" y="1371600"/>
              <a:ext cx="1519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-binding sit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8320" y="329400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20920" y="2575080"/>
              <a:ext cx="846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ros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6720" y="1741680"/>
              <a:ext cx="689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32440" y="1846440"/>
              <a:ext cx="1079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x in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44720" y="1559160"/>
              <a:ext cx="5745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32000" y="2063880"/>
              <a:ext cx="64620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32000" y="2719440"/>
              <a:ext cx="46692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220840" y="2571480"/>
              <a:ext cx="50184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44600" y="2722680"/>
              <a:ext cx="43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1280" y="3011760"/>
              <a:ext cx="28728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22360" y="3011760"/>
              <a:ext cx="2142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2760" y="1630440"/>
              <a:ext cx="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2560" y="243684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2840" y="260352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65800" y="275616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07040" y="260028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07040" y="275616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97320" y="244980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96360" y="252108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88080" y="268776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01040" y="284004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44080" y="267516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44080" y="283212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31120" y="250992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921320" y="4808520"/>
              <a:ext cx="345240" cy="524880"/>
              <a:chOff x="1921320" y="4808520"/>
              <a:chExt cx="345240" cy="524880"/>
            </a:xfrm>
          </p:grpSpPr>
          <p:sp>
            <p:nvSpPr>
              <p:cNvPr id="250" name=""/>
              <p:cNvSpPr/>
              <p:nvPr/>
            </p:nvSpPr>
            <p:spPr>
              <a:xfrm>
                <a:off x="1933560" y="480852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21320" y="497340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33560" y="511920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286360" y="4794480"/>
              <a:ext cx="342000" cy="530280"/>
              <a:chOff x="2286360" y="4794480"/>
              <a:chExt cx="342000" cy="530280"/>
            </a:xfrm>
          </p:grpSpPr>
          <p:sp>
            <p:nvSpPr>
              <p:cNvPr id="254" name=""/>
              <p:cNvSpPr/>
              <p:nvPr/>
            </p:nvSpPr>
            <p:spPr>
              <a:xfrm>
                <a:off x="2295360" y="495324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95360" y="511056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360" y="479448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697560" y="479124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84960" y="495936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97560" y="511200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7400" y="496728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7400" y="512460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26240" y="481032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704720" y="2513160"/>
              <a:ext cx="345600" cy="533160"/>
              <a:chOff x="7704720" y="2513160"/>
              <a:chExt cx="345600" cy="533160"/>
            </a:xfrm>
          </p:grpSpPr>
          <p:sp>
            <p:nvSpPr>
              <p:cNvPr id="264" name=""/>
              <p:cNvSpPr/>
              <p:nvPr/>
            </p:nvSpPr>
            <p:spPr>
              <a:xfrm>
                <a:off x="7716240" y="251316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04720" y="268092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17320" y="283212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028360" y="2521080"/>
              <a:ext cx="343440" cy="526680"/>
              <a:chOff x="8028360" y="2521080"/>
              <a:chExt cx="343440" cy="526680"/>
            </a:xfrm>
          </p:grpSpPr>
          <p:sp>
            <p:nvSpPr>
              <p:cNvPr id="268" name=""/>
              <p:cNvSpPr/>
              <p:nvPr/>
            </p:nvSpPr>
            <p:spPr>
              <a:xfrm>
                <a:off x="8038800" y="267948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38800" y="283356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28360" y="252108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921800" y="3156120"/>
              <a:ext cx="12060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32320" y="3156120"/>
              <a:ext cx="9684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46120" y="3267000"/>
              <a:ext cx="590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75160" y="3105360"/>
              <a:ext cx="1330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eptor tyrosin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inase protein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nactive monome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91720" y="47991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90280" y="49453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90280" y="51022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36480" y="49802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1440" y="51404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6480" y="48243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041160" y="4775400"/>
              <a:ext cx="668160" cy="529560"/>
              <a:chOff x="6041160" y="4775400"/>
              <a:chExt cx="668160" cy="5295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6041160" y="4775400"/>
                <a:ext cx="345240" cy="528480"/>
                <a:chOff x="6041160" y="4775400"/>
                <a:chExt cx="345240" cy="528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53400" y="477540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41160" y="494748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053400" y="508968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365880" y="4781160"/>
                <a:ext cx="343440" cy="523800"/>
                <a:chOff x="6365880" y="4781160"/>
                <a:chExt cx="343440" cy="5238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376320" y="493812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374520" y="509076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365880" y="4781160"/>
                  <a:ext cx="333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y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5950800" y="47721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50800" y="49453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38200" y="50990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74680" y="49309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4680" y="50878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74680" y="4767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0200" y="4632480"/>
              <a:ext cx="942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67320" y="5640480"/>
              <a:ext cx="1102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y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95800" y="4079880"/>
              <a:ext cx="1102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y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41640" y="5050080"/>
              <a:ext cx="942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79320" y="5475240"/>
              <a:ext cx="14529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ated tyrosin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ase reg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unphosphoryl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m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41880" y="5489640"/>
              <a:ext cx="1765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ctivated 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rosine-kin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hosphoryl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m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39080" y="5178240"/>
              <a:ext cx="1122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    ATP      6 AD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900840" y="4511520"/>
              <a:ext cx="14292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972480" y="4511880"/>
              <a:ext cx="7128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3320" y="60958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 channel recep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308120" y="901800"/>
            <a:ext cx="3705120" cy="5423400"/>
            <a:chOff x="4308120" y="901800"/>
            <a:chExt cx="3705120" cy="542340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5572080" y="914400"/>
              <a:ext cx="23814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131240" y="416556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2920" y="2857320"/>
              <a:ext cx="90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69840" y="50925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 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79920" y="2082960"/>
              <a:ext cx="157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nd-g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 channel 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98120" y="2082960"/>
              <a:ext cx="915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15200" y="977760"/>
              <a:ext cx="796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igan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67440" y="11304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51720" y="1320840"/>
              <a:ext cx="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38760" y="5346720"/>
              <a:ext cx="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8200" y="3098880"/>
              <a:ext cx="3049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181200" y="1981080"/>
              <a:ext cx="3049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400520" y="1981080"/>
              <a:ext cx="15228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8120" y="60195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7760" y="901800"/>
              <a:ext cx="87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 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6320" y="1041480"/>
              <a:ext cx="474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1.3: Transduction: Cascades of molecular interactions relay signals from receptors to target molecules in the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step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mplify a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ore opportunities for coordination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tein Phosphorylation and Dephosphory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signal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phosphorylation cas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is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protein kinases add a phosphate to the next one in line, activa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ase enzymes then remove the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690560" y="1231920"/>
            <a:ext cx="6801840" cy="5219640"/>
            <a:chOff x="1690560" y="1231920"/>
            <a:chExt cx="6801840" cy="5219640"/>
          </a:xfrm>
        </p:grpSpPr>
        <p:grpSp>
          <p:nvGrpSpPr>
            <p:cNvPr id="332" name=""/>
            <p:cNvGrpSpPr/>
            <p:nvPr/>
          </p:nvGrpSpPr>
          <p:grpSpPr>
            <a:xfrm>
              <a:off x="1690560" y="1231920"/>
              <a:ext cx="6801840" cy="5219640"/>
              <a:chOff x="1690560" y="1231920"/>
              <a:chExt cx="6801840" cy="52196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690560" y="1231920"/>
                <a:ext cx="6801840" cy="5219640"/>
                <a:chOff x="1690560" y="1231920"/>
                <a:chExt cx="6801840" cy="521964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1690560" y="1231920"/>
                  <a:ext cx="6801840" cy="5219640"/>
                  <a:chOff x="1690560" y="1231920"/>
                  <a:chExt cx="6801840" cy="5219640"/>
                </a:xfrm>
              </p:grpSpPr>
              <p:pic>
                <p:nvPicPr>
                  <p:cNvPr id="33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90560" y="1262160"/>
                    <a:ext cx="67676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6" name=""/>
                  <p:cNvSpPr/>
                  <p:nvPr/>
                </p:nvSpPr>
                <p:spPr>
                  <a:xfrm>
                    <a:off x="3419280" y="1231920"/>
                    <a:ext cx="10735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ignal molecu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003200" y="29131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901760" y="38545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786280" y="478008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872720" y="265752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742480" y="357660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628440" y="451944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755240" y="5462640"/>
                    <a:ext cx="6210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657480" y="5829480"/>
                    <a:ext cx="5706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3311640" y="1409400"/>
                    <a:ext cx="147600" cy="73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618680" y="5835600"/>
                    <a:ext cx="706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ula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espon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307600" y="2087640"/>
                    <a:ext cx="698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ecepto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2943360" y="2008080"/>
                    <a:ext cx="172800" cy="1717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554280" y="426708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457600" y="38257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341760" y="47671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736800" y="37036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73480" y="38624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038560" y="47768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972040" y="57182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33920" y="46450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518080" y="557532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665680" y="60516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933720" y="41688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4807080" y="510696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646080" y="2089080"/>
                    <a:ext cx="10141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ctivated rela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olecu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3448080" y="2271600"/>
                    <a:ext cx="220680" cy="162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429160" y="6203880"/>
                    <a:ext cx="201960" cy="18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9800000">
                    <a:off x="7684920" y="2458800"/>
                    <a:ext cx="73080" cy="2957400"/>
                  </a:xfrm>
                  <a:custGeom>
                    <a:avLst/>
                    <a:gdLst>
                      <a:gd name="textAreaLeft" fmla="*/ 0 w 73080"/>
                      <a:gd name="textAreaRight" fmla="*/ 26280 w 73080"/>
                      <a:gd name="textAreaTop" fmla="*/ 77040 h 2957400"/>
                      <a:gd name="textAreaBottom" fmla="*/ 2880360 h 295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3600000">
                    <a:off x="7107840" y="3817800"/>
                    <a:ext cx="15976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ylation casca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5324040" y="6130800"/>
                  <a:ext cx="303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54640" y="568476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45000" y="5272200"/>
                  <a:ext cx="20196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3654360" y="4344840"/>
                <a:ext cx="2019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446360" y="519264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hosphorylation casc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7360" y="62481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803400" y="2103120"/>
            <a:ext cx="2527920" cy="708480"/>
            <a:chOff x="3803400" y="2103120"/>
            <a:chExt cx="2527920" cy="708480"/>
          </a:xfrm>
        </p:grpSpPr>
        <p:grpSp>
          <p:nvGrpSpPr>
            <p:cNvPr id="375" name=""/>
            <p:cNvGrpSpPr/>
            <p:nvPr/>
          </p:nvGrpSpPr>
          <p:grpSpPr>
            <a:xfrm>
              <a:off x="4684680" y="2103120"/>
              <a:ext cx="1646640" cy="416520"/>
              <a:chOff x="4684680" y="2103120"/>
              <a:chExt cx="1646640" cy="416520"/>
            </a:xfrm>
          </p:grpSpPr>
          <p:sp>
            <p:nvSpPr>
              <p:cNvPr id="376" name=""/>
              <p:cNvSpPr/>
              <p:nvPr/>
            </p:nvSpPr>
            <p:spPr>
              <a:xfrm>
                <a:off x="4684680" y="2122560"/>
                <a:ext cx="1646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 relay molecu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ates protein kinase 1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4771440" y="2103120"/>
                <a:ext cx="270360" cy="275040"/>
                <a:chOff x="4771440" y="2103120"/>
                <a:chExt cx="270360" cy="275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819680" y="2152080"/>
                  <a:ext cx="168120" cy="16704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71440" y="2103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4713120" y="2143080"/>
              <a:ext cx="0" cy="2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803400" y="2289240"/>
              <a:ext cx="896760" cy="52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785840" y="2782800"/>
            <a:ext cx="2413800" cy="936720"/>
            <a:chOff x="4785840" y="2782800"/>
            <a:chExt cx="2413800" cy="936720"/>
          </a:xfrm>
        </p:grpSpPr>
        <p:grpSp>
          <p:nvGrpSpPr>
            <p:cNvPr id="383" name=""/>
            <p:cNvGrpSpPr/>
            <p:nvPr/>
          </p:nvGrpSpPr>
          <p:grpSpPr>
            <a:xfrm>
              <a:off x="5263920" y="2782800"/>
              <a:ext cx="262800" cy="259920"/>
              <a:chOff x="5263920" y="2782800"/>
              <a:chExt cx="262800" cy="259920"/>
            </a:xfrm>
          </p:grpSpPr>
          <p:sp>
            <p:nvSpPr>
              <p:cNvPr id="384" name=""/>
              <p:cNvSpPr/>
              <p:nvPr/>
            </p:nvSpPr>
            <p:spPr>
              <a:xfrm>
                <a:off x="5302800" y="2814840"/>
                <a:ext cx="168840" cy="16632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63920" y="278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785840" y="2793960"/>
              <a:ext cx="2413800" cy="925560"/>
              <a:chOff x="4785840" y="2793960"/>
              <a:chExt cx="2413800" cy="925560"/>
            </a:xfrm>
          </p:grpSpPr>
          <p:sp>
            <p:nvSpPr>
              <p:cNvPr id="387" name=""/>
              <p:cNvSpPr/>
              <p:nvPr/>
            </p:nvSpPr>
            <p:spPr>
              <a:xfrm>
                <a:off x="5222520" y="2793960"/>
                <a:ext cx="19771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protein kinase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fers a phosphate from AT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o an inactive molecule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 kinase 2, thus activa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is second kinas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03800" y="2840040"/>
                <a:ext cx="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785840" y="3121200"/>
                <a:ext cx="406440" cy="598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5609880" y="3822120"/>
            <a:ext cx="2333520" cy="815040"/>
            <a:chOff x="5609880" y="3822120"/>
            <a:chExt cx="2333520" cy="815040"/>
          </a:xfrm>
        </p:grpSpPr>
        <p:grpSp>
          <p:nvGrpSpPr>
            <p:cNvPr id="391" name=""/>
            <p:cNvGrpSpPr/>
            <p:nvPr/>
          </p:nvGrpSpPr>
          <p:grpSpPr>
            <a:xfrm>
              <a:off x="6101640" y="3822120"/>
              <a:ext cx="1841760" cy="717480"/>
              <a:chOff x="6101640" y="3822120"/>
              <a:chExt cx="184176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101640" y="3837960"/>
                <a:ext cx="18417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protein kinase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n catalyzes the phos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orylation (and activation)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 kinase 3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6137640" y="3822120"/>
                <a:ext cx="270360" cy="275040"/>
                <a:chOff x="6137640" y="3822120"/>
                <a:chExt cx="270360" cy="275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184440" y="3871800"/>
                  <a:ext cx="167760" cy="16812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137640" y="3822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6087960" y="387828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609880" y="4159080"/>
              <a:ext cx="477720" cy="47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408360" y="4791240"/>
            <a:ext cx="2015280" cy="853920"/>
            <a:chOff x="6408360" y="4791240"/>
            <a:chExt cx="2015280" cy="853920"/>
          </a:xfrm>
        </p:grpSpPr>
        <p:grpSp>
          <p:nvGrpSpPr>
            <p:cNvPr id="399" name=""/>
            <p:cNvGrpSpPr/>
            <p:nvPr/>
          </p:nvGrpSpPr>
          <p:grpSpPr>
            <a:xfrm>
              <a:off x="6701040" y="4791240"/>
              <a:ext cx="1722600" cy="853920"/>
              <a:chOff x="6701040" y="4791240"/>
              <a:chExt cx="1722600" cy="853920"/>
            </a:xfrm>
          </p:grpSpPr>
          <p:sp>
            <p:nvSpPr>
              <p:cNvPr id="400" name=""/>
              <p:cNvSpPr/>
              <p:nvPr/>
            </p:nvSpPr>
            <p:spPr>
              <a:xfrm>
                <a:off x="6701040" y="4791240"/>
                <a:ext cx="17226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nally, active pro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inase 3 phosphorylates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 (pink) that bring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bout the cell’s response 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signal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6724440" y="4795560"/>
                <a:ext cx="270360" cy="275040"/>
                <a:chOff x="6724440" y="4795560"/>
                <a:chExt cx="270360" cy="2750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778800" y="4846680"/>
                  <a:ext cx="168120" cy="16776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24440" y="47955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>
              <a:off x="6691320" y="488160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408360" y="5129280"/>
              <a:ext cx="282600" cy="41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37440" y="4379760"/>
            <a:ext cx="2137680" cy="1782360"/>
            <a:chOff x="1837440" y="4379760"/>
            <a:chExt cx="2137680" cy="1782360"/>
          </a:xfrm>
        </p:grpSpPr>
        <p:sp>
          <p:nvSpPr>
            <p:cNvPr id="407" name=""/>
            <p:cNvSpPr/>
            <p:nvPr/>
          </p:nvSpPr>
          <p:spPr>
            <a:xfrm>
              <a:off x="1911240" y="5003640"/>
              <a:ext cx="154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1837440" y="4379760"/>
              <a:ext cx="2137680" cy="1782360"/>
              <a:chOff x="1837440" y="4379760"/>
              <a:chExt cx="2137680" cy="17823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837440" y="5001840"/>
                <a:ext cx="1736640" cy="1160280"/>
                <a:chOff x="1837440" y="5001840"/>
                <a:chExt cx="1736640" cy="1160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37440" y="5003640"/>
                  <a:ext cx="1736640" cy="115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zymes called prote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hosphatases (PP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talyze the removal o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phosphate grou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rom the proteins,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aking them inact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d available for reus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871640" y="5001840"/>
                  <a:ext cx="270360" cy="275040"/>
                  <a:chOff x="1871640" y="5001840"/>
                  <a:chExt cx="270360" cy="2750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1918440" y="5050800"/>
                    <a:ext cx="167760" cy="167040"/>
                  </a:xfrm>
                  <a:prstGeom prst="flowChartConnector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871640" y="500184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4" name=""/>
              <p:cNvSpPr/>
              <p:nvPr/>
            </p:nvSpPr>
            <p:spPr>
              <a:xfrm flipV="1">
                <a:off x="2738520" y="4379760"/>
                <a:ext cx="123660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 transduction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ignals on a cell’s surface into cellular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imilar in microbes and mammals, suggesting an early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mall Molecules and Ions as Second Messeng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mess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mall, nonprotein, water-soluble molecules or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yclic AM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 AMP (c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de from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4560" y="3305160"/>
            <a:ext cx="8931600" cy="2711880"/>
            <a:chOff x="34560" y="3305160"/>
            <a:chExt cx="8931600" cy="2711880"/>
          </a:xfrm>
        </p:grpSpPr>
        <p:sp>
          <p:nvSpPr>
            <p:cNvPr id="420" name=""/>
            <p:cNvSpPr/>
            <p:nvPr/>
          </p:nvSpPr>
          <p:spPr>
            <a:xfrm>
              <a:off x="34560" y="57114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27080" y="3305160"/>
              <a:ext cx="8839080" cy="2333520"/>
              <a:chOff x="127080" y="3305160"/>
              <a:chExt cx="8839080" cy="2333520"/>
            </a:xfrm>
          </p:grpSpPr>
          <p:pic>
            <p:nvPicPr>
              <p:cNvPr id="4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7080" y="3305160"/>
                <a:ext cx="8839080" cy="23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631440" y="39664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3160" y="4220640"/>
                <a:ext cx="352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4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60040" y="42206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01600" y="39664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017440" y="36475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22280" y="423180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39720" y="3985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69760" y="42235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9640" y="4487040"/>
                <a:ext cx="332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6920" y="423180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48720" y="422856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88920" y="42188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98400" y="46778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93200" y="49046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21800" y="490464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03280" y="4503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25600" y="4860360"/>
                <a:ext cx="332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58960" y="4503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57520" y="48650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28760" y="44474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47920" y="5057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11960" y="433836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10040" y="334296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13560" y="334764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975800" y="334296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20480" y="39776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41320" y="3571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8360" y="3944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09800" y="36727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12840" y="39571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30440" y="35586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19280" y="39315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72040" y="36727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68920" y="3906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368920" y="35647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61040" y="39189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70560" y="39650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19680" y="42127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93960" y="4473000"/>
                <a:ext cx="332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69720" y="5239800"/>
                <a:ext cx="489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025360" y="4206600"/>
                <a:ext cx="4287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60160" y="41940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38200" y="4434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65040" y="504936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69960" y="5057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98000" y="42235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94760" y="4485600"/>
                <a:ext cx="332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51960" y="4485600"/>
                <a:ext cx="332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60160" y="470196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953040" y="42174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23480" y="4079160"/>
                <a:ext cx="1314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enylyl cycl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55160" y="4091760"/>
                <a:ext cx="1410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hoshodiester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92240" y="4689000"/>
                <a:ext cx="1215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ophosph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36480" y="5247720"/>
                <a:ext cx="1017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yclic A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41920" y="5247720"/>
                <a:ext cx="523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30800" y="50364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216640" y="50443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78400" y="446040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52120" y="4995720"/>
                <a:ext cx="208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G-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the formation of cAMP, which then acts as a second messenger in cellular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33720" y="2358360"/>
            <a:ext cx="5029200" cy="4118400"/>
            <a:chOff x="2133720" y="2358360"/>
            <a:chExt cx="5029200" cy="411840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2133720" y="2408040"/>
              <a:ext cx="5029200" cy="40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727160" y="4357080"/>
              <a:ext cx="53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15960" y="384264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3280" y="4604760"/>
              <a:ext cx="6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51960" y="5114520"/>
              <a:ext cx="870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inas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60360" y="6065280"/>
              <a:ext cx="166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ular respon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39360" y="3907800"/>
              <a:ext cx="1454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-protein-link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000" y="2752560"/>
              <a:ext cx="86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enyly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3440" y="3323880"/>
              <a:ext cx="0" cy="29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03720" y="3036240"/>
              <a:ext cx="919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 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01160" y="2358360"/>
              <a:ext cx="184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st messen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ignal molec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ch as epinephri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465000" y="2566440"/>
              <a:ext cx="254880" cy="4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856440" y="626076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ium is an important second messe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cells are able to regulate its concentration in the cy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348560" y="2285640"/>
            <a:ext cx="5274000" cy="4268160"/>
            <a:chOff x="1348560" y="2285640"/>
            <a:chExt cx="5274000" cy="4268160"/>
          </a:xfrm>
        </p:grpSpPr>
        <p:grpSp>
          <p:nvGrpSpPr>
            <p:cNvPr id="501" name=""/>
            <p:cNvGrpSpPr/>
            <p:nvPr/>
          </p:nvGrpSpPr>
          <p:grpSpPr>
            <a:xfrm>
              <a:off x="2651040" y="2285640"/>
              <a:ext cx="3971520" cy="4202280"/>
              <a:chOff x="2651040" y="2285640"/>
              <a:chExt cx="3971520" cy="4202280"/>
            </a:xfrm>
          </p:grpSpPr>
          <p:pic>
            <p:nvPicPr>
              <p:cNvPr id="5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1040" y="2332080"/>
                <a:ext cx="3949920" cy="415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2656440" y="2285640"/>
                <a:ext cx="1696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TRACELLUL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U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07440" y="2356920"/>
                <a:ext cx="915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s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br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494680" y="2489040"/>
                <a:ext cx="259560" cy="18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14200" y="2947680"/>
                <a:ext cx="48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43640" y="4290480"/>
                <a:ext cx="103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50520" y="5475600"/>
                <a:ext cx="48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00640" y="5489280"/>
                <a:ext cx="599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2+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4120" y="4964040"/>
                <a:ext cx="599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2+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88880" y="4910040"/>
                <a:ext cx="125640" cy="1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11000" y="5576760"/>
                <a:ext cx="129960" cy="6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79080" y="2816640"/>
                <a:ext cx="599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2+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85480" y="2862720"/>
                <a:ext cx="129960" cy="12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975920" y="5315040"/>
                <a:ext cx="11588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doplasm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iculum (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105880" y="5264640"/>
                <a:ext cx="324360" cy="12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06240" y="3897720"/>
                <a:ext cx="82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375800" y="3183840"/>
                <a:ext cx="1145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30600" y="3352320"/>
                <a:ext cx="194400" cy="6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288240" y="605700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75440" y="6062760"/>
                <a:ext cx="92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igh [Ca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2+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24840" y="6062760"/>
                <a:ext cx="88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w [Ca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2+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1348560" y="624816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econd messengers such as inositol triphosphate and diacylglyce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rigger an increase in calcium in the cytos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ocal and Long-Distance Signa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in a multicellular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via chemical messe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ell junctions that directly connect the cytoplasm of adjac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60120" y="2743200"/>
            <a:ext cx="6828480" cy="3428280"/>
            <a:chOff x="960120" y="2743200"/>
            <a:chExt cx="6828480" cy="34282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008000" y="3200400"/>
              <a:ext cx="31701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495680" y="3203640"/>
              <a:ext cx="32673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507840" y="2743200"/>
              <a:ext cx="154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a membra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93360" y="5245200"/>
              <a:ext cx="1486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odesm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tween plant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1640" y="5257800"/>
              <a:ext cx="1603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p jun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tween anim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33960" y="297972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925800" y="2979720"/>
              <a:ext cx="308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0120" y="5727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3280" y="5750640"/>
              <a:ext cx="5845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Cell junctions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Both animals and plants have cell junctions that allow molec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pass readily between adjacent cells without crossing plasma membran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09000" y="2133720"/>
            <a:ext cx="7396920" cy="4172760"/>
            <a:chOff x="909000" y="2133720"/>
            <a:chExt cx="7396920" cy="41727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914400" y="2133720"/>
              <a:ext cx="739152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09000" y="58543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98640" y="5885640"/>
              <a:ext cx="59594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Cell-cell recognition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Two cells in an animal may communicate by interaction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tween molecules protruding from their surfac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local signaling, animal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ommunicate via direc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9216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ther cases, animal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using local reg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29200" y="2130480"/>
            <a:ext cx="7471440" cy="4055040"/>
            <a:chOff x="529200" y="2130480"/>
            <a:chExt cx="7471440" cy="40550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2220840" y="2511360"/>
              <a:ext cx="57531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131920" y="5330880"/>
              <a:ext cx="28958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 Paracrine signaling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 secreting cell act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on nearby target cells by discharging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molecules of a local regulator (a growth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factor, for example) into the extracellula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flui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3360" y="5315040"/>
              <a:ext cx="2432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 Synaptic signaling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 nerve cell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releases neurotransmitter molecul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into a synapse, stimulating the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target cel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6360" y="4768920"/>
              <a:ext cx="1131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l regulat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ffuses throug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ellular flu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90640" y="4619520"/>
              <a:ext cx="8892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81440" y="38196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57560" y="2556000"/>
              <a:ext cx="774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rget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43480" y="2778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9360" y="3676680"/>
              <a:ext cx="72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re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1480" y="38196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5120" y="2558880"/>
              <a:ext cx="1197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ical 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ong nerve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iggers release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513120" y="2727360"/>
              <a:ext cx="30492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73840" y="3578400"/>
              <a:ext cx="112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ffuses acros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369252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0680" y="4933800"/>
              <a:ext cx="885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rget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 stimul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3800" y="48355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33920" y="2130480"/>
              <a:ext cx="101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l 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246400" y="2362320"/>
              <a:ext cx="571500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29200" y="587988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4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long-distance 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lants and animals use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37440" y="1828800"/>
            <a:ext cx="4058640" cy="4699440"/>
            <a:chOff x="1837440" y="1828800"/>
            <a:chExt cx="4058640" cy="4699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048120" y="2133720"/>
              <a:ext cx="2847960" cy="35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59160" y="3705120"/>
              <a:ext cx="1113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mone trav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bloodstre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target ce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32200" y="5648400"/>
              <a:ext cx="23428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c) Hormonal signaling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pecialized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endocrine cells secrete hormon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into body fluids, often the blood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Hormones may reach virtually al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body cell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3240" y="1828800"/>
              <a:ext cx="1510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ng-distance 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11440" y="2425680"/>
              <a:ext cx="810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6280" y="2158920"/>
              <a:ext cx="54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s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589640" y="2311200"/>
              <a:ext cx="190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6680" y="4581360"/>
              <a:ext cx="550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7960" y="4711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193840"/>
              <a:ext cx="977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docrine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7440" y="6222600"/>
              <a:ext cx="130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4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therland suggested that cells receiving signals went through three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10600" y="1638360"/>
            <a:ext cx="8628480" cy="4204080"/>
            <a:chOff x="210600" y="1638360"/>
            <a:chExt cx="8628480" cy="4204080"/>
          </a:xfrm>
        </p:grpSpPr>
        <p:grpSp>
          <p:nvGrpSpPr>
            <p:cNvPr id="150" name=""/>
            <p:cNvGrpSpPr/>
            <p:nvPr/>
          </p:nvGrpSpPr>
          <p:grpSpPr>
            <a:xfrm>
              <a:off x="304920" y="1638360"/>
              <a:ext cx="8534160" cy="3840120"/>
              <a:chOff x="304920" y="1638360"/>
              <a:chExt cx="8534160" cy="384012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638360"/>
                <a:ext cx="8534160" cy="38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04920" y="1691640"/>
                <a:ext cx="1696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TRACELLUL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U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3200" y="2908080"/>
                <a:ext cx="909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ep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3000" y="316224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9480" y="4790520"/>
                <a:ext cx="898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igna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lec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575440" y="4012920"/>
                <a:ext cx="4138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lay molecules in a signal transduction pathwa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1520" y="1942920"/>
                <a:ext cx="1680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lasma membra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08160" y="2095560"/>
                <a:ext cx="83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28680" y="1726920"/>
                <a:ext cx="1282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39040" y="3263040"/>
                <a:ext cx="960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v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cellul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pon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10600" y="55368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 of cell sign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02320" y="2476080"/>
            <a:ext cx="1199160" cy="305640"/>
            <a:chOff x="1102320" y="2476080"/>
            <a:chExt cx="1199160" cy="305640"/>
          </a:xfrm>
        </p:grpSpPr>
        <p:sp>
          <p:nvSpPr>
            <p:cNvPr id="165" name=""/>
            <p:cNvSpPr/>
            <p:nvPr/>
          </p:nvSpPr>
          <p:spPr>
            <a:xfrm>
              <a:off x="1313280" y="2476080"/>
              <a:ext cx="98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102320" y="2488680"/>
              <a:ext cx="270360" cy="275040"/>
              <a:chOff x="1102320" y="2488680"/>
              <a:chExt cx="270360" cy="275040"/>
            </a:xfrm>
          </p:grpSpPr>
          <p:sp>
            <p:nvSpPr>
              <p:cNvPr id="167" name=""/>
              <p:cNvSpPr/>
              <p:nvPr/>
            </p:nvSpPr>
            <p:spPr>
              <a:xfrm>
                <a:off x="1123920" y="2511000"/>
                <a:ext cx="22860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02320" y="24886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3948480" y="2476080"/>
            <a:ext cx="1429560" cy="305640"/>
            <a:chOff x="3948480" y="2476080"/>
            <a:chExt cx="1429560" cy="305640"/>
          </a:xfrm>
        </p:grpSpPr>
        <p:sp>
          <p:nvSpPr>
            <p:cNvPr id="170" name=""/>
            <p:cNvSpPr/>
            <p:nvPr/>
          </p:nvSpPr>
          <p:spPr>
            <a:xfrm>
              <a:off x="4161240" y="2476080"/>
              <a:ext cx="121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d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948480" y="2488680"/>
              <a:ext cx="270360" cy="275040"/>
              <a:chOff x="3948480" y="2488680"/>
              <a:chExt cx="270360" cy="275040"/>
            </a:xfrm>
          </p:grpSpPr>
          <p:sp>
            <p:nvSpPr>
              <p:cNvPr id="172" name=""/>
              <p:cNvSpPr/>
              <p:nvPr/>
            </p:nvSpPr>
            <p:spPr>
              <a:xfrm>
                <a:off x="3970080" y="2511000"/>
                <a:ext cx="22860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8480" y="24886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7339680" y="2476080"/>
            <a:ext cx="1222920" cy="305640"/>
            <a:chOff x="7339680" y="2476080"/>
            <a:chExt cx="1222920" cy="305640"/>
          </a:xfrm>
        </p:grpSpPr>
        <p:sp>
          <p:nvSpPr>
            <p:cNvPr id="175" name=""/>
            <p:cNvSpPr/>
            <p:nvPr/>
          </p:nvSpPr>
          <p:spPr>
            <a:xfrm>
              <a:off x="7574400" y="2476080"/>
              <a:ext cx="98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339680" y="2488680"/>
              <a:ext cx="270360" cy="275040"/>
              <a:chOff x="7339680" y="2488680"/>
              <a:chExt cx="270360" cy="275040"/>
            </a:xfrm>
          </p:grpSpPr>
          <p:sp>
            <p:nvSpPr>
              <p:cNvPr id="177" name=""/>
              <p:cNvSpPr/>
              <p:nvPr/>
            </p:nvSpPr>
            <p:spPr>
              <a:xfrm>
                <a:off x="7361280" y="2511000"/>
                <a:ext cx="22860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39680" y="24886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moranc</cp:lastModifiedBy>
  <dcterms:modified xsi:type="dcterms:W3CDTF">2010-10-13T17:26:14Z</dcterms:modified>
  <cp:revision>79</cp:revision>
  <dc:subject/>
  <dc:title>video slide</dc:title>
</cp:coreProperties>
</file>